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3919-EC01-4662-9537-90A8A3C1FC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573C-6701-4C2D-87FE-9080FBDD2C9D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8083-167A-4825-A6F8-507A90258A8D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1B12-C6B6-419D-9975-D50D9EADEA0D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12BD-0112-46D0-8B0A-5638D2C6438F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F43F-8276-4DDD-9FC4-82E19C05E2D9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804A-74A7-4838-823A-F1980A1DF24A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607B-3127-4EC7-80B2-15E9452EB74A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6C4F-D659-4BF6-BD98-24B995251EBC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9686-5B26-4151-BD6C-FD5A2F0AD9A7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F019-3982-4F7B-8DE9-A2BB6469A68A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7A36-31F1-4A78-AD47-B667AA48E813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7A01-0B50-4B65-8B08-904F47A496B5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A443-8412-404A-ACF1-8D07FEFAA97E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2C59-DDF2-4C03-B8C4-0E72183EBC91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1476-C7BA-4805-A060-F838A9F22B73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6D7B-86B6-4078-A0D7-BC7DB89244F3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5A79-BBEE-4E30-8622-74A92C57C703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4AF0-7B0C-4119-BA32-801F68639ACA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A225-E189-454C-B112-EFFF999430A5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0DB7-C4AB-4E06-BFE8-589E38A4DBC2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3490-8CBC-4F0C-83BA-4E1C3A391DC4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8365-62B2-4D3F-977F-F0823F4F4B94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20F1-2B01-4C13-9C23-8106B07B90E5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9B97-DA61-4F1E-8135-631F9E2B5CB5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8B21-B1E2-4137-8DD4-B96AEB87EA8A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C657-45F1-4864-BFC2-25ADF681D2DF}" type="slidenum">
              <a:rPr b="0" lang="en-US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64F4-54F9-4F94-8650-C251D18F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F7D8-8D88-45A0-BA8C-C9A96B1E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11B1-FFC5-4493-BE4B-560A9183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ADFC-D1A5-462A-B405-26F96964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7EC1-CF34-4B33-8CB9-42D2E49B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FC69-DAED-4A95-A446-8E2EBFD1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BC01-C1F3-4AC8-9A29-1E608BC4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157F-3C8F-4935-9FA3-9C1F82FD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6279-2488-42DF-8D5C-3DB663B5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A3B3-3504-4DA4-8CE2-5D04D7CC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3E80-4C40-4723-9EDD-69B89483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1F4B-7A86-4617-A0F4-2EEE37A1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F7F2-B231-4A3F-B4C6-7868FE96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4098-0A5A-472C-9BAA-71CE233E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6A04-7CB8-4A32-9B2E-9C73C86C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2C8D-1869-4AC8-ABA0-C0661CE5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987D-F5D4-45F2-862E-8B3D8965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CBB7-36E0-4191-9483-83A1216E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8F03-46BC-4778-B55E-1E9FB4CE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E58C-0F66-4CA0-8983-02443A44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5A6-9A7D-44B2-89BD-B4EDD852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E129-A726-4BFD-A04D-ED03194D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EC35-3B9E-4C7F-8080-F252F238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AEDC-F1A8-41EE-9D17-A30CB3F4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4572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53400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73520"/>
            <a:ext cx="28958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ponsive        Class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534000"/>
            <a:ext cx="1905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090C-F276-447E-8C7B-199BF0D9E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suncolor"/>
          <p:cNvPicPr/>
          <p:nvPr/>
        </p:nvPicPr>
        <p:blipFill>
          <a:blip r:embed="rId2"/>
          <a:stretch/>
        </p:blipFill>
        <p:spPr>
          <a:xfrm>
            <a:off x="4419720" y="6477120"/>
            <a:ext cx="35244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suncolor"/>
          <p:cNvPicPr/>
          <p:nvPr/>
        </p:nvPicPr>
        <p:blipFill>
          <a:blip r:embed="rId2"/>
          <a:stretch/>
        </p:blipFill>
        <p:spPr>
          <a:xfrm>
            <a:off x="3962520" y="762120"/>
            <a:ext cx="14112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Line 8"/>
          <p:cNvSpPr/>
          <p:nvPr/>
        </p:nvSpPr>
        <p:spPr>
          <a:xfrm>
            <a:off x="0" y="76320"/>
            <a:ext cx="9144000" cy="0"/>
          </a:xfrm>
          <a:prstGeom prst="line">
            <a:avLst/>
          </a:prstGeom>
          <a:ln w="4572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NEFC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92D3-8FA6-4416-9499-774F8A5DC069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4114800" y="617220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33"/>
                </a:solidFill>
                <a:latin typeface="Arial"/>
              </a:rPr>
              <a:t>Responsive Classroom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Sampler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resented by: Andrew Moral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Arial"/>
              </a:rPr>
              <a:t>Responsive Classroom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Approach</a:t>
            </a:r>
            <a:endParaRPr b="0" lang="en-US" sz="4000" spc="-1" strike="noStrike">
              <a:solidFill>
                <a:srgbClr val="122b7a"/>
              </a:solidFill>
              <a:latin typeface="Arial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3052800" y="2895480"/>
            <a:ext cx="327672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22b7a"/>
                </a:solidFill>
                <a:latin typeface="Arial"/>
              </a:rPr>
              <a:t>Guiding Principles: </a:t>
            </a:r>
            <a:br>
              <a:rPr sz="4000"/>
            </a:br>
            <a:r>
              <a:rPr b="0" lang="en-US" sz="4000" spc="-1" strike="noStrike">
                <a:solidFill>
                  <a:srgbClr val="122b7a"/>
                </a:solidFill>
                <a:latin typeface="Arial"/>
              </a:rPr>
              <a:t>Digging Deeper Museum Walk &amp; Dinner Break</a:t>
            </a:r>
            <a:endParaRPr b="0" lang="en-US" sz="40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What do you notice about these examples?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What was interesting to you about this activity?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Oliver Twist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Oliver twist, twist, twist (hands on hip and twist body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Can’t do this, this, this (Tap right foot and shake forefinger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ouch his head, head, head (Touch head with hands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ouch his nose, nose, nose (Touch nose with hands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ouch his ears, ears, ears (Touch ears with hands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ouch his toes, toes, toes (Touch toes with hands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What is Interactive Modeling?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echnique for teaching procedures, skills, and routines that the teacher expects to be done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one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, and only one way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hows students exactly how to do what we expect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tive learning that includes: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Modeli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Observi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Responding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Coachi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Research that supports Interactive Modeling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E. Jensen (2005): 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Recommends that teachers actively engage students, provide them, with interesting practice or repetition to learn skill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A. Bandura (1977):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upports the idea that humans (and children) develop behaviors when they pay attention to a model, can retain and imitate what they see, and receive feedback about their behavior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R.J. Marzano (2007):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ummarizes research on effective teaching practices, including the power of stopping during demonstrations to ask students for their observations or when practicing a procedural skil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Why Interactive Modeling Works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tudents learn why the routine or skill is important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tudents create a clear image of what’s expected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tudents do the noticing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tudents have the chance to practice and gain expertise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tudents receive immediate feedback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Interactive Modeling can be used to teach: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outin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ransition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uppli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ademic Skill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ocial Skill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Steps for Interactive Modeling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Describe a positive behavior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Demonstrate the behavior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sk students what they noticed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Volunteers demonstrate the behavior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epeat step 3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tudents practice—teacher observes &amp; coaches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Provide Feedback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Step 1: Say what you will model and why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Plan exactly what you will say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Keep it brief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Use positive wording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efer to the class (school) rul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Step 2: Model the Behavior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odel the </a:t>
            </a:r>
            <a:r>
              <a:rPr b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positive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 behavior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tay silent as you mod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ell students to notice what you mod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Step 3: Ask students what they noticed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Use open-ended question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sk a follow-up question if needed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Emphasize what to do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001"/>
              </a:spcAft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frame “You Didn’ts” to “You Dids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001"/>
              </a:spcAft>
              <a:buClr>
                <a:srgbClr val="333333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r example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spcAft>
                <a:spcPts val="1001"/>
              </a:spcAft>
              <a:buClr>
                <a:srgbClr val="333333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tudent: “</a:t>
            </a:r>
            <a:r>
              <a:rPr b="0" i="1" lang="en-US" sz="1600" spc="-1" strike="noStrike">
                <a:solidFill>
                  <a:srgbClr val="333333"/>
                </a:solidFill>
                <a:latin typeface="Arial"/>
              </a:rPr>
              <a:t>You didn’t run.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spcAft>
                <a:spcPts val="1001"/>
              </a:spcAft>
              <a:buClr>
                <a:srgbClr val="333333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eacher:  “</a:t>
            </a:r>
            <a:r>
              <a:rPr b="0" i="1" lang="en-US" sz="1600" spc="-1" strike="noStrike">
                <a:solidFill>
                  <a:srgbClr val="333333"/>
                </a:solidFill>
                <a:latin typeface="Arial"/>
              </a:rPr>
              <a:t>So, how did I get there?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Goals for today’s workshop: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Become familiar with the </a:t>
            </a:r>
            <a:r>
              <a:rPr b="0" i="1" lang="en-US" sz="2800" spc="-1" strike="noStrike">
                <a:solidFill>
                  <a:srgbClr val="1c1c1c"/>
                </a:solidFill>
                <a:latin typeface="Arial"/>
              </a:rPr>
              <a:t>RC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 approach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Develop understanding of two proactive discipline strategies: Morning Meeting &amp; Interactive Modeling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Identify resources to further develop understanding of </a:t>
            </a:r>
            <a:r>
              <a:rPr b="0" i="1" lang="en-US" sz="2800" spc="-1" strike="noStrike">
                <a:solidFill>
                  <a:srgbClr val="1c1c1c"/>
                </a:solidFill>
                <a:latin typeface="Arial"/>
              </a:rPr>
              <a:t>RC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 approach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Step 4: Invite one or more students to model.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lect students who will repeat your demonstration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spcAft>
                <a:spcPts val="1001"/>
              </a:spcAft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33"/>
                </a:solidFill>
                <a:latin typeface="Arial"/>
              </a:rPr>
              <a:t>Who would like to demonstrate how to multiply fractions using the method I showed?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spcAft>
                <a:spcPts val="1001"/>
              </a:spcAft>
              <a:buClr>
                <a:srgbClr val="333333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Instead of: </a:t>
            </a:r>
            <a:r>
              <a:rPr b="0" i="1" lang="en-US" sz="1400" spc="-1" strike="noStrike">
                <a:solidFill>
                  <a:srgbClr val="333333"/>
                </a:solidFill>
                <a:latin typeface="Arial"/>
              </a:rPr>
              <a:t>Who else can show us how to multiply fractions?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 (too wide-open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Have the demonstrator tell you what he/she will do before modeling.</a:t>
            </a:r>
            <a:endParaRPr b="0" lang="en-US" sz="22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0">
              <a:spcBef>
                <a:spcPts val="550"/>
              </a:spcBef>
              <a:spcAft>
                <a:spcPts val="10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Step 5: Again, ask the students what they noticed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0">
              <a:spcBef>
                <a:spcPts val="550"/>
              </a:spcBef>
              <a:spcAft>
                <a:spcPts val="10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Step 6: Have all students practice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pread out this practice if needed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cus on progress, not perfection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Step 7: Provide Feedback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Name the specific, positive actions you noticed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edirect students respectfully but clearly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Video Clips of I.M. Lessons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ow to choose a partner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ow to go to timeout 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ow to sit in a circl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ow to use scissors safely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Possible I.M. Lessons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Classroom Routines- 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Responding to signal for quiet, where/how to sit, showing what active listening looks like, signaling a desire to speak during a discussion, chatting with a partner, what to do if you need help, independent work time routin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ransitions-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Putting/taking materials away/out, reading/interacting with the Morning Message, handling homework, signing up for lunch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Working with supplies: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Math manipulatives, </a:t>
            </a:r>
            <a:r>
              <a:rPr b="0" i="1" lang="en-US" sz="1600" spc="-1" strike="noStrike">
                <a:solidFill>
                  <a:srgbClr val="333333"/>
                </a:solidFill>
                <a:latin typeface="Arial"/>
              </a:rPr>
              <a:t>Journeys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small group readers, colored pencils, scissors, etc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Academic/Social Skills-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Ask questions, partner chat, head one’s paper, fill out/check an answer, take notes, etc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ee the book </a:t>
            </a:r>
            <a:r>
              <a:rPr b="0" i="1" lang="en-US" sz="2000" spc="-1" strike="noStrike">
                <a:solidFill>
                  <a:srgbClr val="1c1c1c"/>
                </a:solidFill>
                <a:latin typeface="Arial"/>
              </a:rPr>
              <a:t>Interactive Modeling: A Powerful Technique for Teaching Children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      by: Margaret Wilson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My Bonny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y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nny lies over the ocean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y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nny lies over the sea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y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nny lies over the ocean,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o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 my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nny to me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,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,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h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 my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nny to me, to me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,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,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h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ing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k my </a:t>
            </a:r>
            <a:r>
              <a:rPr b="1" i="1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B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nny to me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Routines &amp; Rituals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r each ritual/routine, be looking for what skill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nd behaviors students need to know or exhibit to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be successful at that time of day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rrival Tim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gnal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Energizer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iddle of the day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End of the day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Planning Guide for </a:t>
            </a:r>
            <a:br>
              <a:rPr sz="4400"/>
            </a:b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Interactive Modeling Lessons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onsider: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hy is this behavior or skill important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hat’s the learning goal for students- what do you want them to be able to do as a result of the lesson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w will you introduce the lesson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hat exactly will you model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hat details do you want students to notice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w will you coach students as they practice?  What things might go wrong and how will you respond if they do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hat materials or additional support (if any) do you need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w will you follow up with this lesson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Interactive Modeling Planning Shee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Closing Circle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What is something you learned tonight that you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want to take back to your own classroom?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Morning Meeting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Introduction to 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Responsive Classroom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approach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7 Guiding Principles of 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RC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Dinner Break/ Museum Walk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Interactive Modeling demonstration &amp; application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Closing Circl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22b7a"/>
                </a:solidFill>
                <a:latin typeface="Arial"/>
              </a:rPr>
              <a:t>Responsive Classroom</a:t>
            </a:r>
            <a:br>
              <a:rPr sz="4400"/>
            </a:b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Northeast Foundation Websit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c1c1c"/>
                </a:solidFill>
                <a:latin typeface="Arial"/>
              </a:rPr>
              <a:t>Responsive Classroom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 Youtube Chann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ndrew Moral: amoral@crsd.org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Morning Meeting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Greeting: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artner Ch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haring: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Just Like Me!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Activity: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ands u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essag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Hands Up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Hands up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or 2013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Gonna name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ome _____ / /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(Categories such as rivers, states, animals, etc.)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One apiece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No repeats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No hesitation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No duplication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tarting with ____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_________ / /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Introduction to </a:t>
            </a:r>
            <a:br>
              <a:rPr sz="4400"/>
            </a:br>
            <a:r>
              <a:rPr b="0" i="1" lang="en-US" sz="4400" spc="-1" strike="noStrike">
                <a:solidFill>
                  <a:srgbClr val="122b7a"/>
                </a:solidFill>
                <a:latin typeface="Arial"/>
              </a:rPr>
              <a:t>Responsive Classroom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* What is the 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</a:rPr>
              <a:t>Responsive Classroom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approach? 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(9 minutes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* What does it look like in a school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(12 minutes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professional development services are available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(5 minutes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Guiding Principles of </a:t>
            </a:r>
            <a:r>
              <a:rPr b="0" i="1" lang="en-US" sz="4400" spc="-1" strike="noStrike">
                <a:solidFill>
                  <a:srgbClr val="122b7a"/>
                </a:solidFill>
                <a:latin typeface="Arial"/>
              </a:rPr>
              <a:t>RC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ocial curriculum = academic curriculum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How children learn = what they lear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Greatest cognitive growth occurs through social interac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ARE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Knowing the children = knowing the conten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Knowing families is essential to children’s educa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How adults work together = individual competenc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5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2b7a"/>
                </a:solidFill>
                <a:latin typeface="Arial"/>
              </a:rPr>
              <a:t>Teaching Practices</a:t>
            </a:r>
            <a:endParaRPr b="0" lang="en-US" sz="44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orning Meeting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reating Rule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Interactive Modeling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eacher Languag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Logical Consequence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Guided Discovery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cademic Choic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assroom Organization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Working with Famili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ollaborative Problem-Solving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3124080" y="647388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ive        Classro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22b7a"/>
                </a:solidFill>
                <a:latin typeface="Arial"/>
              </a:rPr>
              <a:t>Guiding Principles: Digging Deeper</a:t>
            </a:r>
            <a:endParaRPr b="0" lang="en-US" sz="4000" spc="-1" strike="noStrike">
              <a:solidFill>
                <a:srgbClr val="122b7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Read a card as a group &amp; decide: 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3333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st relevant principle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3333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upport/not support principle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Place tape on back of card.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Place on selected principle &amp; column.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Repeat for remaining cards.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8:35:13Z</dcterms:created>
  <dc:creator>lynn</dc:creator>
  <dc:description/>
  <dc:language>en-US</dc:language>
  <cp:lastModifiedBy>Moral, Andrew</cp:lastModifiedBy>
  <dcterms:modified xsi:type="dcterms:W3CDTF">2013-04-03T15:12:00Z</dcterms:modified>
  <cp:revision>47</cp:revision>
  <dc:subject/>
  <dc:title>Responsive Classroom</dc:title>
</cp:coreProperties>
</file>